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66E-334C-4C86-A6E5-1B99AE7C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FEE-4F6A-42FE-962C-6D8304FB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4ED-6237-4D53-B41D-703FF104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2B7-BC45-42B4-912F-F7D96B8F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40EC-9976-42AF-95ED-EC80E5EB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047B-A079-4CE1-ACEC-8F2EE3FD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4356-AEA7-4CCE-BA0B-03B9588E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E7BD-6C51-403F-97CC-32BE8552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C1F-ED11-444B-878F-523998EA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C0EB-1E85-4F78-BC21-47AAA6AC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6649-DA1A-4CA9-9B80-ED58A60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4D4-9189-45DC-AD74-878A6373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2AB4-6268-441E-A079-2A796980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C0DF-BC1A-4819-9C9F-D52DEFD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F4A0-82AB-4671-9DA6-05BD3635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C494-781B-4CAA-BA5A-EE73A430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98C9-0B7A-4582-9A8E-98788440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642-4769-40D2-B3DA-48640BAD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D3C-4D2D-484D-BADD-BCD965CE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6DF-5A16-4150-8FCA-FEE51AF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DC9-77E1-4DE7-B98B-86C4621F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7E1-C499-4374-BF61-C43296C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240-5668-42AD-8934-003267B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397-6CBE-40DB-BA6D-B04780E5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7D48-B01B-4983-AC50-EC9F59784B5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9B0-BF60-458E-8464-FF03308C693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1773360"/>
            <a:ext cx="640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3300"/>
                </a:solidFill>
                <a:latin typeface="標楷體"/>
                <a:ea typeface="標楷體"/>
              </a:rPr>
              <a:t>結膜炎的預防與保健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573000"/>
            <a:ext cx="4600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諾貝爾醫療集團 執行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諾貝爾眼科診所 院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張朝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14558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眼睛紅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流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疼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畏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3300"/>
                </a:solidFill>
                <a:latin typeface="標楷體"/>
                <a:ea typeface="標楷體"/>
              </a:rPr>
              <a:t>眼脂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每當游泳季節的來臨，許多青少年易從公共設施或大眾游泳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中感染到結膜炎，或接觸到受污染的公共物品如：毛巾、臉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…</a:t>
            </a: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等，皆會在學校、托兒所及家中造成相互傳染，而造成所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標楷體"/>
                <a:ea typeface="標楷體"/>
              </a:rPr>
              <a:t>的「紅眼症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3165480" cy="3313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3300"/>
                </a:solidFill>
                <a:latin typeface="標楷體"/>
                <a:ea typeface="標楷體"/>
              </a:rPr>
              <a:t>「結膜炎」主要症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急性結膜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慢性結膜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流行性結膜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過敏性結膜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3300"/>
                </a:solidFill>
                <a:latin typeface="標楷體"/>
                <a:ea typeface="標楷體"/>
              </a:rPr>
              <a:t>「結膜炎」可分為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08720" y="4941720"/>
            <a:ext cx="208908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032360" cy="233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51280" y="3879720"/>
            <a:ext cx="4249800" cy="2460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292720" y="1773360"/>
            <a:ext cx="1800360" cy="136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403280" y="4149720"/>
            <a:ext cx="15462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避免用手揉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維持良好衛生習慣，隨時注意清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避免接觸患者所使用過的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不要借用別人眼藥水等私人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不在結膜炎流行期間做不必要的眼科檢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3300"/>
                </a:solidFill>
                <a:latin typeface="標楷體"/>
                <a:ea typeface="標楷體"/>
              </a:rPr>
              <a:t>若是經由外界環境所造成，則應儘量避免接觸到刺激源，如減少外出風吹等刺激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3300"/>
                </a:solidFill>
                <a:latin typeface="標楷體"/>
                <a:ea typeface="標楷體"/>
              </a:rPr>
              <a:t>個人預防和保鍵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7:14:28Z</dcterms:created>
  <dc:creator>SuperXP</dc:creator>
  <dc:description/>
  <dc:language>en-US</dc:language>
  <cp:lastModifiedBy>SuperXP</cp:lastModifiedBy>
  <dcterms:modified xsi:type="dcterms:W3CDTF">2007-07-05T07:47:47Z</dcterms:modified>
  <cp:revision>9</cp:revision>
  <dc:subject/>
  <dc:title>結膜炎的預防與保健</dc:title>
</cp:coreProperties>
</file>