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4B5-C793-456F-8ECB-CD628695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4DA-F0E2-43A8-993F-E260301D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24C-287E-4957-9CA8-913B78D1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41A-F374-4803-ADB3-931159F7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42DF-57DA-4CF9-BC03-A9D1C27E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1FE9-E944-4A74-BFFC-A96B4865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DEBC-274E-4B2B-A22A-756F5FF0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D583-363E-4EC5-87FF-95A90ABA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15DE-EC45-4943-9DA8-E146AE3F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077F-63B1-4A52-8963-E8E9B24D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6830-A40C-4887-BA78-9FCAB74E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1A2-4EB2-4BF8-98CF-B27B046F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A999-5F8E-48EB-9D6D-F252D74D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E656-3B8A-4E9D-922A-95673AD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CFDC-42D7-4C22-8ECE-AE55E1D7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BE6-BB6B-40C9-A152-C8C27716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127B-1D3E-4303-8018-AB042477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1B1-7BCF-426D-ADBD-27E03F97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20A-6FE2-47AF-82F8-322C4158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3CC-BCD5-4A4B-9359-470151E9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F05-F0F1-4C6C-9762-482B0973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05E-90B0-49A1-B2DB-75902C1C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83D-5D13-4CC2-88E0-2870EA6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FE5-A3DC-4977-A61A-91FDCDFB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48B8-C705-418B-923F-8879B6FCE2C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62F3-0B71-413B-BBA5-7227B51E697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61930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標楷體"/>
                <a:ea typeface="標楷體"/>
              </a:rPr>
              <a:t>護眼須知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諾貝爾醫療集團 執行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諾貝爾眼科診所 院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張朝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99"/>
                </a:solidFill>
                <a:latin typeface="Arial"/>
                <a:ea typeface="標楷體"/>
              </a:rPr>
              <a:t>吃出眼睛的健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210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各種抗氧化的維生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維生素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維生素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維生素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魚肝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葉黃素…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908000" y="5445000"/>
            <a:ext cx="1428840" cy="1162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859280" y="4076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164360" y="544500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364000" y="2492280"/>
            <a:ext cx="119088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7164360" y="3213000"/>
            <a:ext cx="1285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99"/>
                </a:solidFill>
                <a:latin typeface="Arial"/>
                <a:ea typeface="標楷體"/>
              </a:rPr>
              <a:t>眼鏡的選擇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眼鏡可說是眼睛的衣裳，最主要的目的是矯正視力，其次是保護眼睛及美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阻絕紫外線傷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質輕的安全鏡片為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透光率較佳的鏡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太陽眼鏡注意不要選擇藍色的鏡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99"/>
                </a:solidFill>
                <a:latin typeface="Arial"/>
                <a:ea typeface="標楷體"/>
              </a:rPr>
              <a:t>如何讓眼睛獲得充分的休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良好的照明，正確的閱讀姿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光源由左後方投射至桌前，不要閃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維持適當的距離（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30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35 cm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適度的休息，充分的睡眠，是護眼的不二法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每隔三十至四十分鐘休息五到十分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平時要抽空到公園或郊外踏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讓眼睛凝視遠方，是最好的護眼運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99"/>
                </a:solidFill>
                <a:latin typeface="Arial"/>
                <a:ea typeface="標楷體"/>
              </a:rPr>
              <a:t>運動時眼睛的保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運動球速非常快，如棒球、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橄欖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…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最好戴護目鏡或護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運動時所配帶的眼鏡，鏡框要避免尖銳的稜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鏡片則以安全鏡片為首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平常注意保養，一旦眼睛有任何不適，要儘快求助於專業眼科醫師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診治，把握時機，爭取療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眼睛是靈魂之窗，在日常生活中時時把握護眼的訣竅，不僅眼睛明亮，更可活絡身體其他機能，帶來身心的健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8:03:38Z</dcterms:created>
  <dc:creator>SuperXP</dc:creator>
  <dc:description/>
  <dc:language>en-US</dc:language>
  <cp:lastModifiedBy>SuperXP</cp:lastModifiedBy>
  <dcterms:modified xsi:type="dcterms:W3CDTF">2007-07-05T08:46:42Z</dcterms:modified>
  <cp:revision>7</cp:revision>
  <dc:subject/>
  <dc:title>護眼須知</dc:title>
</cp:coreProperties>
</file>