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D4B-22F5-4983-9D0F-487D277B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F86-09F8-40C4-9AB4-7E4FE55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BD0-5321-4B98-BCDE-74BD6682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298-F90F-4119-B6A4-B2CB72CB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8516-B930-4905-A3FF-A56E25EE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B06D-8E88-4540-BCFD-56D248D5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797E-DB1B-4B13-BBDD-CEAC299E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6EF-88A6-4525-AF9F-B4AB1C16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5B9D-5331-4DA0-A751-51A1C35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955E-0150-4425-B0B7-09E85578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D76-7030-4383-8711-C54507D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876-6E76-4941-85C7-EBBF59EF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3667-AD26-4781-8E8C-40739F4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E9E8-4899-4143-A2AD-CB082B17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4905-FB6F-46ED-8DC7-245DCFD8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A3E9-45E0-486E-9C48-BF0ACADE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E00-6F49-457D-AE31-4B0E938C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1AC-28A4-4CDE-A14F-F49A079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090-0331-4091-B50B-412C2AF1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69E-7416-41D8-ACEE-AE2CD9BC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163-A7F9-4FEC-9519-4C900383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2AB-A769-474D-B140-236478FE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F9C-B4EE-4CE7-A8D9-9BF315C2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90F-4663-4E93-8432-D6C7637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82CF-02F1-41B4-9F30-46295A85ADD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6DDA-58FB-4429-95F0-CD09BE9CA33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11280" y="1773360"/>
            <a:ext cx="48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990000"/>
                </a:solidFill>
                <a:latin typeface="標楷體"/>
                <a:ea typeface="標楷體"/>
              </a:rPr>
              <a:t>兒童視力保健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573000"/>
            <a:ext cx="4600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諾貝爾醫療集團 執行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諾貝爾眼科診所 院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張朝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1607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2204640"/>
            <a:ext cx="89647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感覺系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包括視力、視野、辦色力、對比敏感度及立體感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運動系統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包括兩眼的快速運動、追隨運動及展視、聚視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是否有斜視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00"/>
                </a:solidFill>
                <a:latin typeface="標楷體"/>
                <a:ea typeface="標楷體"/>
              </a:rPr>
              <a:t>眼球及視力的發育是屬於中樞神經系統的一部份</a:t>
            </a:r>
            <a:br>
              <a:rPr sz="2400"/>
            </a:b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視覺功能大概可分為</a:t>
            </a:r>
            <a:br>
              <a:rPr sz="3200"/>
            </a:br>
            <a:r>
              <a:rPr b="1" lang="zh-TW" sz="3200" spc="-1" strike="noStrike" u="sng">
                <a:solidFill>
                  <a:srgbClr val="990000"/>
                </a:solidFill>
                <a:uFillTx/>
                <a:latin typeface="標楷體"/>
                <a:ea typeface="標楷體"/>
              </a:rPr>
              <a:t>感覺系統</a:t>
            </a: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和</a:t>
            </a:r>
            <a:r>
              <a:rPr b="1" lang="zh-TW" sz="3200" spc="-1" strike="noStrike" u="sng">
                <a:solidFill>
                  <a:srgbClr val="990000"/>
                </a:solidFill>
                <a:uFillTx/>
                <a:latin typeface="標楷體"/>
                <a:ea typeface="標楷體"/>
              </a:rPr>
              <a:t>運動系統</a:t>
            </a:r>
            <a:r>
              <a:rPr b="1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兩部分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72010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視力表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(E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字或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C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字</a:t>
            </a: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立體圖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視力檢查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2663640" cy="1790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2721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720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家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天花板的光源或立燈要足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不要凝視電腦螢幕太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用可調整高度的椅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……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學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看黑板時瞇眼、皺眉及側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教室有足夠的光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  ……</a:t>
            </a:r>
            <a:r>
              <a:rPr b="0" lang="zh-TW" sz="2800" spc="-1" strike="noStrike">
                <a:solidFill>
                  <a:srgbClr val="000066"/>
                </a:solidFill>
                <a:latin typeface="標楷體"/>
                <a:ea typeface="標楷體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如何做好兒童視力保健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1607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915920"/>
            <a:ext cx="72010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營養攝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生活作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定期檢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點藥水控制度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標楷體"/>
                <a:ea typeface="標楷體"/>
              </a:rPr>
              <a:t>硬式隱形眼鏡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適合國中以上起配戴</a:t>
            </a:r>
            <a:r>
              <a:rPr b="0" lang="zh-TW" sz="2400" spc="-1" strike="noStrike">
                <a:solidFill>
                  <a:srgbClr val="000066"/>
                </a:solidFill>
                <a:latin typeface="標楷體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539280" y="6919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00"/>
                </a:solidFill>
                <a:latin typeface="標楷體"/>
                <a:ea typeface="標楷體"/>
              </a:rPr>
              <a:t>如何預防近視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20160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754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學校負責視力保健的督導和教學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家庭配合督導學生的作息、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閱讀及看電視的正確方法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衛生機構負責保健諮詢及診治，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社教機構藉傳播媒體宣導視力保健；</a:t>
            </a:r>
            <a:br>
              <a:rPr sz="3600"/>
            </a:br>
            <a:r>
              <a:rPr b="1" lang="zh-TW" sz="3600" spc="-1" strike="noStrike">
                <a:solidFill>
                  <a:srgbClr val="990000"/>
                </a:solidFill>
                <a:latin typeface="標楷體"/>
                <a:ea typeface="標楷體"/>
              </a:rPr>
              <a:t>做好視力保健，人人都有好視力。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24480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8:52:24Z</dcterms:created>
  <dc:creator>SuperXP</dc:creator>
  <dc:description/>
  <dc:language>en-US</dc:language>
  <cp:lastModifiedBy>SuperXP</cp:lastModifiedBy>
  <dcterms:modified xsi:type="dcterms:W3CDTF">2007-07-05T09:45:13Z</dcterms:modified>
  <cp:revision>9</cp:revision>
  <dc:subject/>
  <dc:title>兒童視力保健</dc:title>
</cp:coreProperties>
</file>